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F5A-568A-43BD-B3A6-1BE7DDC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151-3D4F-45F3-B7FB-26FC94BC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118-7FA4-43D5-BB62-867F27B0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48C-CA6D-4E66-9A3C-342216FB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DFB-29A9-4AC5-A6A7-7BC8A5D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6871-D810-47E5-A20E-B576737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9518-B5B5-476B-B29A-61355084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C9E1-9B73-4A27-8B4F-27C6F7B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58CC-B0DE-4BBA-8679-936A034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795-F213-4F40-A2C6-65CD91E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3776-7B7A-4526-B75F-EA3666A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425-DCDE-4714-B81C-6FC19AD4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F1BD-1000-4A16-B529-1CD9321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BB5-A707-41A3-B0FD-AFB56A5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66DA-9163-4FFD-8E75-FB5BAF5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EBFD-9C06-44BF-B77A-E375A293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2F9A-FF58-4F3F-BC63-157BF439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52B-F227-4E65-878C-E108FFE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9B0-2A56-46EB-B4C7-F71475C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A2F-2B92-4601-893C-0F2C6374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F2C-ED4F-44C8-97E7-7F83568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740-64AD-424F-9353-9FA82A8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0D8-B2DC-495E-9EE3-3D1E87B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E3A-5EC7-426F-9793-2316F6C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4DD4-86BB-4633-83A7-F11E3666E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A33-BA42-4243-BAD1-A16D5176CD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jo 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gning T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un Chul L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1 P2P Semin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arm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is fragmented into several pieces for storage and retrie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ragmented pieces are distributed over th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 agent requests a file, many agents participate in the collaborative effort of data delive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payment and Distributed Load Balan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nteraction between agents involves some offer of Mo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is resistant to “denial service” vandal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mand for a certain resource of an agent is high, the agent may bog down or grind entirely to a sto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payment and Dist. Loa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lanc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keeping score of what resources are contributed by agents within network, Mojo Nation locks-in customer resour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s who have contributed resources to the system and got “score” will a choice of moving to the head of the line for that resource, and the clients automatically migrate to less-occupied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Distributed Load Balan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50532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64832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266688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02920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95288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73392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20968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2514600"/>
            <a:ext cx="457200" cy="45720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971800"/>
            <a:ext cx="99036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cubicBezTo>
                  <a:pt x="68" y="244"/>
                  <a:pt x="136" y="152"/>
                  <a:pt x="240" y="96"/>
                </a:cubicBezTo>
                <a:cubicBezTo>
                  <a:pt x="344" y="40"/>
                  <a:pt x="560" y="16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96252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cubicBezTo>
                  <a:pt x="96" y="60"/>
                  <a:pt x="192" y="120"/>
                  <a:pt x="240" y="192"/>
                </a:cubicBezTo>
                <a:cubicBezTo>
                  <a:pt x="288" y="264"/>
                  <a:pt x="288" y="348"/>
                  <a:pt x="288" y="4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952880"/>
            <a:ext cx="14479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84" y="12"/>
                  <a:pt x="568" y="24"/>
                  <a:pt x="720" y="48"/>
                </a:cubicBezTo>
                <a:cubicBezTo>
                  <a:pt x="872" y="72"/>
                  <a:pt x="892" y="108"/>
                  <a:pt x="912" y="1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27340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40" y="228"/>
                  <a:pt x="280" y="112"/>
                  <a:pt x="432" y="56"/>
                </a:cubicBezTo>
                <a:cubicBezTo>
                  <a:pt x="584" y="0"/>
                  <a:pt x="748" y="4"/>
                  <a:pt x="912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971800"/>
            <a:ext cx="2438640" cy="762120"/>
          </a:xfrm>
          <a:custGeom>
            <a:avLst/>
            <a:gdLst/>
            <a:ahLst/>
            <a:rect l="l" t="t" r="r" b="b"/>
            <a:pathLst>
              <a:path w="1536" h="480">
                <a:moveTo>
                  <a:pt x="0" y="0"/>
                </a:moveTo>
                <a:cubicBezTo>
                  <a:pt x="400" y="32"/>
                  <a:pt x="800" y="64"/>
                  <a:pt x="1056" y="144"/>
                </a:cubicBezTo>
                <a:cubicBezTo>
                  <a:pt x="1312" y="224"/>
                  <a:pt x="1424" y="352"/>
                  <a:pt x="1536" y="4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191120"/>
            <a:ext cx="1295280" cy="99036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624"/>
                </a:moveTo>
                <a:cubicBezTo>
                  <a:pt x="244" y="508"/>
                  <a:pt x="488" y="392"/>
                  <a:pt x="624" y="288"/>
                </a:cubicBezTo>
                <a:cubicBezTo>
                  <a:pt x="760" y="184"/>
                  <a:pt x="788" y="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334120"/>
            <a:ext cx="1828800" cy="152280"/>
          </a:xfrm>
          <a:custGeom>
            <a:avLst/>
            <a:gdLst/>
            <a:ahLst/>
            <a:rect l="l" t="t" r="r" b="b"/>
            <a:pathLst>
              <a:path w="1152" h="96">
                <a:moveTo>
                  <a:pt x="0" y="0"/>
                </a:moveTo>
                <a:cubicBezTo>
                  <a:pt x="240" y="48"/>
                  <a:pt x="480" y="96"/>
                  <a:pt x="672" y="96"/>
                </a:cubicBezTo>
                <a:cubicBezTo>
                  <a:pt x="864" y="96"/>
                  <a:pt x="1008" y="48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41148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08" y="52"/>
                  <a:pt x="216" y="104"/>
                  <a:pt x="288" y="192"/>
                </a:cubicBezTo>
                <a:cubicBezTo>
                  <a:pt x="360" y="280"/>
                  <a:pt x="396" y="404"/>
                  <a:pt x="432" y="5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51460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0"/>
                </a:moveTo>
                <a:cubicBezTo>
                  <a:pt x="360" y="40"/>
                  <a:pt x="720" y="80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971800"/>
            <a:ext cx="330120" cy="2133720"/>
          </a:xfrm>
          <a:custGeom>
            <a:avLst/>
            <a:gdLst/>
            <a:ahLst/>
            <a:rect l="l" t="t" r="r" b="b"/>
            <a:pathLst>
              <a:path w="208" h="1344">
                <a:moveTo>
                  <a:pt x="96" y="0"/>
                </a:moveTo>
                <a:cubicBezTo>
                  <a:pt x="152" y="272"/>
                  <a:pt x="208" y="544"/>
                  <a:pt x="192" y="768"/>
                </a:cubicBezTo>
                <a:cubicBezTo>
                  <a:pt x="176" y="992"/>
                  <a:pt x="88" y="1168"/>
                  <a:pt x="0" y="13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2895480"/>
            <a:ext cx="16002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4763"/>
              <a:gd name="adj5" fmla="val 153472"/>
              <a:gd name="adj6" fmla="val -8571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agent is over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6"/>
            <a:endCxn id="145" idx="2"/>
          </p:cNvCxnSpPr>
          <p:nvPr/>
        </p:nvCxnSpPr>
        <p:spPr>
          <a:xfrm>
            <a:off x="2285640" y="3733560"/>
            <a:ext cx="3429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1" idx="6"/>
            <a:endCxn id="145" idx="3"/>
          </p:cNvCxnSpPr>
          <p:nvPr/>
        </p:nvCxnSpPr>
        <p:spPr>
          <a:xfrm flipV="1">
            <a:off x="2743200" y="4123440"/>
            <a:ext cx="3039120" cy="7534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sm"/>
          </a:ln>
        </p:spPr>
      </p:cxnSp>
      <p:cxnSp>
        <p:nvCxnSpPr>
          <p:cNvPr id="161" name=""/>
          <p:cNvCxnSpPr>
            <a:stCxn id="142" idx="4"/>
            <a:endCxn id="143" idx="0"/>
          </p:cNvCxnSpPr>
          <p:nvPr/>
        </p:nvCxnSpPr>
        <p:spPr>
          <a:xfrm flipH="1" rot="16200000">
            <a:off x="2933640" y="3542760"/>
            <a:ext cx="1905840" cy="1067760"/>
          </a:xfrm>
          <a:prstGeom prst="curvedConnector5">
            <a:avLst>
              <a:gd name="adj1" fmla="val 49990"/>
              <a:gd name="adj2" fmla="val 49983"/>
              <a:gd name="adj3" fmla="val 49990"/>
            </a:avLst>
          </a:prstGeom>
          <a:ln w="9360">
            <a:solidFill>
              <a:srgbClr val="000000"/>
            </a:solidFill>
            <a:miter/>
            <a:tailEnd len="lg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y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potential Mojo Nation users cannot link to the system because of the firewall or other rea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ay server enables these customers to use the Mojo Nation by holding their system messages outside the firewall until the user’s Broker makes an outgoing connection to retriev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utation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gent maintains its own local database of reputation for other agents, including a list of others with which it has done business and information about these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stance, if one agent tries to cheat another by not delivering information, the requesting party will lessen the local reputation of the other, and complete the desired transaction with a different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 if it i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options when it i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ryption and authent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ecurity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RSA algorithm to encryp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 authenticity by digital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messages, initiating and respo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or sends initiating message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respond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transac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versation involves an offer of Mo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or send initiating message and Mojo o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ent checks service price and initiator’s credit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quantity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e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arm distribution aggregates the bandwidth of hundreds or thousands of low –bandwidth ag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economic incen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/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Nation combines the flexibility of demand-driven marketplace with a secure “swarm distribution” mechanism that goes far beyond any current file-shar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, massively scalable and secure tool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Nation is a new P2P content distribution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Nation = Protocol + Appl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as created by Jim McCoy who founded Evil Genius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a Version 0.994.7 was released in August 16, 2001 with 2000 us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philosophy of Mojo Na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zy cyber parasites won’t have a chance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 Mojo Na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chieve this goal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MOJ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ntroduc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Nation is decentraliz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jo Nation is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P2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/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Mojo Nation you can exchange any kind of files. (images, audio, webpages, text files, adult mater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ojo Nation, every transaction has some co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jo is Mojo Nation’s digital curr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provide some service then you earn mojo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get service then you lose mojo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/Service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gent(host) supports 3 types of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loa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loa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of its resources for other agents(hos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Space (e.g. block ser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(e.g. distribution of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ng cycles. (e.g. relay ser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 of Mojo Nation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3048120"/>
            <a:ext cx="5105520" cy="2743200"/>
            <a:chOff x="2209680" y="3048120"/>
            <a:chExt cx="5105520" cy="2743200"/>
          </a:xfrm>
        </p:grpSpPr>
        <p:sp>
          <p:nvSpPr>
            <p:cNvPr id="114" name=""/>
            <p:cNvSpPr/>
            <p:nvPr/>
          </p:nvSpPr>
          <p:spPr>
            <a:xfrm>
              <a:off x="2209680" y="3048120"/>
              <a:ext cx="5105520" cy="27432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80680" y="3246480"/>
              <a:ext cx="2723400" cy="30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80680" y="3675960"/>
              <a:ext cx="271224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99640" y="4601520"/>
              <a:ext cx="119628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tatrac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21560" y="4612320"/>
              <a:ext cx="119628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ent Trac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20800" y="4601520"/>
              <a:ext cx="119628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ublication Trac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234960" y="4017600"/>
              <a:ext cx="615240" cy="57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55880" y="3995640"/>
              <a:ext cx="540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83880" y="4003200"/>
              <a:ext cx="5612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89960" y="5372640"/>
              <a:ext cx="1094040" cy="34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16428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jo Nation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22408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1600" y="1752480"/>
          <a:ext cx="46958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46958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048440" y="2386080"/>
            <a:ext cx="1638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652"/>
              <a:gd name="adj5" fmla="val 194532"/>
              <a:gd name="adj6" fmla="val -11627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1414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388"/>
              <a:gd name="adj5" fmla="val 9375"/>
              <a:gd name="adj6" fmla="val -1498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e technology of Mojo Na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arm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payment and distributed Load Balanc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uta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01:46:48Z</dcterms:created>
  <dc:creator> </dc:creator>
  <dc:description/>
  <dc:language>en-US</dc:language>
  <cp:lastModifiedBy>Satellite Pro 470CDT</cp:lastModifiedBy>
  <dcterms:modified xsi:type="dcterms:W3CDTF">2001-11-02T20:47:30Z</dcterms:modified>
  <cp:revision>20</cp:revision>
  <dc:subject/>
  <dc:title>Mojo Nation</dc:title>
</cp:coreProperties>
</file>